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1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H%20TCS%20GEN" descr=""/>
          <p:cNvPicPr/>
          <p:nvPr/>
        </p:nvPicPr>
        <p:blipFill>
          <a:blip r:embed="rId2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3" name="TATALOGO-PPT-TEMP" descr=""/>
          <p:cNvPicPr/>
          <p:nvPr/>
        </p:nvPicPr>
        <p:blipFill>
          <a:blip r:embed="rId3"/>
          <a:stretch/>
        </p:blipFill>
        <p:spPr>
          <a:xfrm>
            <a:off x="0" y="6232680"/>
            <a:ext cx="9150480" cy="62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LH%20TCS%20GEN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yriad Roman"/>
              </a:rPr>
              <a:t>Addendum to Public Debt Office Computerisation &amp; Negotiated Dealing System (PDO-NDS)</a:t>
            </a:r>
            <a:r>
              <a:rPr b="0" lang="en-US" sz="2800" spc="-1" strike="noStrike">
                <a:solidFill>
                  <a:srgbClr val="cc3300"/>
                </a:solidFill>
                <a:latin typeface="Myriad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ndslogo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23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292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505320" y="228600"/>
          <a:ext cx="18381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28600"/>
                    <a:ext cx="18381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320" y="2286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21932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Price Based Auction 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209680"/>
            <a:ext cx="7696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underwriting bid screen from issue details screen or right click in issue announcement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commission fee and face valu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subm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ids screen showing fields of Bids – Yield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2876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1981080"/>
          <a:ext cx="647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647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828800" y="556272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yield to be appl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5638680"/>
            <a:ext cx="180000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has to e Enter Face value to  be appl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57200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57200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5791320"/>
            <a:ext cx="266724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ft Click here to open Underwriting Subscription For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05120" y="1600200"/>
          <a:ext cx="5476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47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724280" y="426708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962520"/>
            <a:ext cx="11430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066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Opening Underwriting Bid form through Announcement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 (Contd..)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47920" y="1600200"/>
          <a:ext cx="5476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547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819520" y="4724280"/>
            <a:ext cx="180000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has to e Enter Face value to  be appl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819520"/>
            <a:ext cx="304920" cy="1904760"/>
          </a:xfrm>
          <a:prstGeom prst="downArrow">
            <a:avLst>
              <a:gd name="adj1" fmla="val 50000"/>
              <a:gd name="adj2" fmla="val 15616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472428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has to e Enter Face value to  be appl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2819520"/>
            <a:ext cx="304920" cy="1904760"/>
          </a:xfrm>
          <a:prstGeom prst="downArrow">
            <a:avLst>
              <a:gd name="adj1" fmla="val 50000"/>
              <a:gd name="adj2" fmla="val 15616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14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Underwriting Subscription Form Showing Fees and Amoun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04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990720"/>
            <a:ext cx="609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47704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1066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9144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For Approving go to Primary Market -&gt; Subscription List -&gt; Pending for Approval -&gt; Right Click on Bid -&gt;  Details -&gt; Underwriting Form Opens -&gt; Ap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3352680"/>
            <a:ext cx="304920" cy="1905120"/>
          </a:xfrm>
          <a:prstGeom prst="downArrow">
            <a:avLst>
              <a:gd name="adj1" fmla="val 50000"/>
              <a:gd name="adj2" fmla="val 15619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25780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has to approve the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2971800"/>
            <a:ext cx="11430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3352680"/>
            <a:ext cx="304920" cy="1905120"/>
          </a:xfrm>
          <a:prstGeom prst="downArrow">
            <a:avLst>
              <a:gd name="adj1" fmla="val 50000"/>
              <a:gd name="adj2" fmla="val 15619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525780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has to select Underwriting Requ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467480" cy="4724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95280" y="6094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ultiple Bids Entry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934320" cy="4800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3880" y="685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ultiple Bids Entry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Approving the Bids and status of bids.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Once Approve button is clicked status of bid will change to Sent to Host.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Once bid is received at Host End status of bid will change to Member database as Received at Host.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Then all bids received in Auction will undergo validations and bid status will be updated in Member database as Validated at Host/Failed for validations at Host End.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Status of bids- Received at Host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990720"/>
          <a:ext cx="876312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76312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Status of Bids - Validated at Host End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3520" y="1523880"/>
          <a:ext cx="8381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381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hancements in NDS Version 3.0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uc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Issue Announcement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lacing Bid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lacing Underwriting Bid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Approving Bids and Change in status of Bid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rinting List of Bids Placed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hecking Issue Result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Overview of End-to-End Auction Proces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Status of Bids - Failed for Validations at Host End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1523880"/>
          <a:ext cx="8610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10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rinting List of Bids Plac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186696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Primary Market &gt;&gt;Subscription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the option as Underwriting Request/Issue Subscription Request and select status as required and click Sea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Report List screen and find the entry corresponding to the report trigg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report by clicking on Report button provided in the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rint option in the report to print the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rinting List of Bids Placed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 Sample report of bids 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3824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280" y="838080"/>
          <a:ext cx="879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79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Issue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6696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the bidding processes is done, IDMD will announce th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is displayed in the “Calls and Messages” window under Issue Announcements &amp; Results no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 click on the corresponding entry to see the details of the issu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Open the same using menu option issu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Issu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320" y="38088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Issue Result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295280"/>
            <a:ext cx="82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ssue results screen and results message  can be New Loan / Under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00200" y="1981080"/>
          <a:ext cx="547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547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736640" cy="373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819520" y="5181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QUESTIONS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End-to-End Auction </a:t>
            </a:r>
            <a:r>
              <a:rPr b="0" lang="en-US" sz="2400" spc="-1" strike="noStrike">
                <a:solidFill>
                  <a:srgbClr val="cc3300"/>
                </a:solidFill>
                <a:latin typeface="Myriad Roman"/>
              </a:rPr>
              <a:t>(CG-Sec / SG-Sec)</a:t>
            </a:r>
            <a:endParaRPr b="0" lang="en-US" sz="2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762120"/>
            <a:ext cx="87631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 is created and announced by IDM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is broadcasted to all the me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is displayed in the “Calls and Messages” window under Issue Announcements &amp; Results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ssue details would be inserted in member database.If Issue details are not present in database Member can obtain same by clicking on Refresh button as shown in next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NDS Members submit &amp; approve Normal Bids (maker/chec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ary Dealers submit &amp; approve Underwriting Bid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aker/chec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ubmitted bids are processed within RBI and the results are  annou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NDS Members check the results for the allo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049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295280"/>
            <a:ext cx="76964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 click on the corresponding issue to see the details of the issue from call and messag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Open the same from Announcement messages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Announcement Mess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228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840" y="1066680"/>
            <a:ext cx="23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or Issu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620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76520"/>
          <a:ext cx="762012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62012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088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000" y="83808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ssue details screen showing issu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5638680"/>
            <a:ext cx="1800000" cy="561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an click this to go to the Subscrip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67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67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295280"/>
          <a:ext cx="761976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61976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724280" y="4724280"/>
            <a:ext cx="114300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105520"/>
            <a:ext cx="457200" cy="495360"/>
          </a:xfrm>
          <a:prstGeom prst="down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724280"/>
            <a:ext cx="114300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5638680"/>
            <a:ext cx="2057400" cy="561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an click this to go to the Underwriting Subscrip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5105520"/>
            <a:ext cx="457200" cy="495360"/>
          </a:xfrm>
          <a:prstGeom prst="down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4840" y="990720"/>
            <a:ext cx="87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Opening Issue details screen from Announcement Messages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3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05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5880" y="5334120"/>
            <a:ext cx="1800360" cy="60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can click here to go to the Issue Details Sc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2895480"/>
            <a:ext cx="102888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3200400"/>
            <a:ext cx="304920" cy="2133720"/>
          </a:xfrm>
          <a:prstGeom prst="downArrow">
            <a:avLst>
              <a:gd name="adj1" fmla="val 50000"/>
              <a:gd name="adj2" fmla="val 17494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280" y="990720"/>
            <a:ext cx="79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nnouncement messages screen showing different issue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87400" y="18003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87400" y="18003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0016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41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62320" y="3048120"/>
            <a:ext cx="1371600" cy="615960"/>
          </a:xfrm>
          <a:prstGeom prst="borderCallout2">
            <a:avLst>
              <a:gd name="adj1" fmla="val 18750"/>
              <a:gd name="adj2" fmla="val -8333"/>
              <a:gd name="adj3" fmla="val 18555"/>
              <a:gd name="adj4" fmla="val -19560"/>
              <a:gd name="adj5" fmla="val 158763"/>
              <a:gd name="adj6" fmla="val -33680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ght Click here to go to the different op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2286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27944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Price/Yield Based Auction 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209680"/>
            <a:ext cx="7696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bid screen from issue details screen or right click in announcement message for that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Price/Yield and face valu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the B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/>
  <dc:description/>
  <dc:language>en-US</dc:language>
  <cp:lastModifiedBy>Administrator</cp:lastModifiedBy>
  <cp:lastPrinted>2001-09-06T04:03:13Z</cp:lastPrinted>
  <dcterms:modified xsi:type="dcterms:W3CDTF">2006-04-25T12:05:49Z</dcterms:modified>
  <cp:revision>549</cp:revision>
  <dc:subject/>
  <dc:title>Software Project Management</dc:title>
</cp:coreProperties>
</file>